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C972-F82E-44CC-B3BF-8272DA502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9D7C-C783-4CC0-B5D9-87CF223C9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3357-9408-42F8-BDB8-80DA928C0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3620-6652-47FF-8E4C-0543C9124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73C-07A5-4F34-B3E8-12411000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D85A-16BB-4791-AABC-69DD888B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BEF-796E-430F-83B2-746CB739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111-E471-4E58-B111-22A2D241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2E3-C03E-4C23-848D-EDD25B63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688-97A0-4FDA-A254-543B17C3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D7F-B7FA-451F-A5A0-E583F791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60BD-465C-4026-82A3-9239699D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1D7-9318-4230-8C37-E67EA5BD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9A9-329D-40E1-ACEC-C2D9BF82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D0FB-52C7-4D19-87A7-43DCAAA6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D422-F274-4B60-A4A6-ADE8DAC2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1957-6B59-4653-8DF4-58849D07B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30320"/>
            <a:ext cx="7848720" cy="16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62120" y="2812680"/>
            <a:ext cx="792468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divide monomia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simplify negative expon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A.10, A.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39840" y="6248520"/>
            <a:ext cx="340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457200" y="1066680"/>
          <a:ext cx="23623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23623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2"/>
          <p:cNvGraphicFramePr/>
          <p:nvPr/>
        </p:nvGraphicFramePr>
        <p:xfrm>
          <a:off x="2819520" y="1066680"/>
          <a:ext cx="2595600" cy="14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066680"/>
                    <a:ext cx="2595600" cy="14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5486400" y="1066680"/>
          <a:ext cx="1841400" cy="146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066680"/>
                    <a:ext cx="1841400" cy="14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6"/>
          <p:cNvGraphicFramePr/>
          <p:nvPr/>
        </p:nvGraphicFramePr>
        <p:xfrm>
          <a:off x="7375680" y="1066680"/>
          <a:ext cx="1463400" cy="146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75680" y="1066680"/>
                    <a:ext cx="1463400" cy="14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17"/>
          <p:cNvSpPr/>
          <p:nvPr/>
        </p:nvSpPr>
        <p:spPr>
          <a:xfrm>
            <a:off x="5486400" y="2743200"/>
            <a:ext cx="27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leave the negative expon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8"/>
          <p:cNvSpPr/>
          <p:nvPr/>
        </p:nvSpPr>
        <p:spPr>
          <a:xfrm flipH="1" flipV="1">
            <a:off x="6857640" y="2057040"/>
            <a:ext cx="304920" cy="60948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0" y="37749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is another way of doing this without negative expon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 don’t want to see it, skip the next slide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implify (alternate version)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457200" y="1143000"/>
          <a:ext cx="23623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23623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11"/>
          <p:cNvSpPr/>
          <p:nvPr/>
        </p:nvSpPr>
        <p:spPr>
          <a:xfrm>
            <a:off x="3200400" y="121932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03bd"/>
                </a:solidFill>
                <a:latin typeface="Times New Roman"/>
              </a:rPr>
              <a:t>Look and see (visualize) where you have the larger exponent and leave the variable in that location. Subtract the smaller exponent from the larg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304920" y="304812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problem, r is larger in the numerator and s is larger in the denomin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13"/>
          <p:cNvGraphicFramePr/>
          <p:nvPr/>
        </p:nvGraphicFramePr>
        <p:xfrm>
          <a:off x="1981080" y="4122720"/>
          <a:ext cx="3259080" cy="15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122720"/>
                    <a:ext cx="325908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14"/>
          <p:cNvGraphicFramePr/>
          <p:nvPr/>
        </p:nvGraphicFramePr>
        <p:xfrm>
          <a:off x="5181480" y="4191120"/>
          <a:ext cx="1463760" cy="149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4191120"/>
                    <a:ext cx="146376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5"/>
          <p:cNvSpPr/>
          <p:nvPr/>
        </p:nvSpPr>
        <p:spPr>
          <a:xfrm>
            <a:off x="304920" y="56386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that you did not have to work with negative exponents! This method is quick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533520" y="1022400"/>
          <a:ext cx="166680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2400"/>
                    <a:ext cx="166680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4924440" y="2746440"/>
          <a:ext cx="132408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4440" y="2746440"/>
                    <a:ext cx="132408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1"/>
          <p:cNvSpPr/>
          <p:nvPr/>
        </p:nvSpPr>
        <p:spPr>
          <a:xfrm>
            <a:off x="2735640" y="1447920"/>
            <a:ext cx="555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rid of the negative expon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12"/>
          <p:cNvGraphicFramePr/>
          <p:nvPr/>
        </p:nvGraphicFramePr>
        <p:xfrm>
          <a:off x="2181240" y="2625840"/>
          <a:ext cx="2639880" cy="16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81240" y="2625840"/>
                    <a:ext cx="263988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Line 13"/>
          <p:cNvSpPr/>
          <p:nvPr/>
        </p:nvSpPr>
        <p:spPr>
          <a:xfrm>
            <a:off x="2943360" y="3200400"/>
            <a:ext cx="761760" cy="60948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Object 5"/>
          <p:cNvGraphicFramePr/>
          <p:nvPr/>
        </p:nvGraphicFramePr>
        <p:xfrm>
          <a:off x="304920" y="995400"/>
          <a:ext cx="267948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5400"/>
                    <a:ext cx="267948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6240600" y="2813040"/>
          <a:ext cx="1303200" cy="16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0600" y="2813040"/>
                    <a:ext cx="130320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12"/>
          <p:cNvSpPr/>
          <p:nvPr/>
        </p:nvSpPr>
        <p:spPr>
          <a:xfrm>
            <a:off x="3192840" y="1447920"/>
            <a:ext cx="57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rid of the negative expon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80880" y="1522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14"/>
          <p:cNvGraphicFramePr/>
          <p:nvPr/>
        </p:nvGraphicFramePr>
        <p:xfrm>
          <a:off x="2305080" y="2657520"/>
          <a:ext cx="4019400" cy="183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05080" y="2657520"/>
                    <a:ext cx="401940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Line 15"/>
          <p:cNvSpPr/>
          <p:nvPr/>
        </p:nvSpPr>
        <p:spPr>
          <a:xfrm>
            <a:off x="2971800" y="3200400"/>
            <a:ext cx="1905120" cy="68580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3886200" y="3124080"/>
            <a:ext cx="1905120" cy="68580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7"/>
          <p:cNvSpPr/>
          <p:nvPr/>
        </p:nvSpPr>
        <p:spPr>
          <a:xfrm flipV="1">
            <a:off x="3886200" y="2971800"/>
            <a:ext cx="1447920" cy="99072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3"/>
          <p:cNvGraphicFramePr/>
          <p:nvPr/>
        </p:nvGraphicFramePr>
        <p:xfrm>
          <a:off x="304920" y="990720"/>
          <a:ext cx="35049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3504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5"/>
          <p:cNvGraphicFramePr/>
          <p:nvPr/>
        </p:nvGraphicFramePr>
        <p:xfrm>
          <a:off x="3124080" y="3147840"/>
          <a:ext cx="2133720" cy="156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147840"/>
                    <a:ext cx="213372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6"/>
          <p:cNvGraphicFramePr/>
          <p:nvPr/>
        </p:nvGraphicFramePr>
        <p:xfrm>
          <a:off x="5181480" y="4871880"/>
          <a:ext cx="2210040" cy="177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4871880"/>
                    <a:ext cx="2210040" cy="17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7"/>
          <p:cNvSpPr/>
          <p:nvPr/>
        </p:nvSpPr>
        <p:spPr>
          <a:xfrm>
            <a:off x="4141800" y="167652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rid of the parenthe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80880" y="1522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9"/>
          <p:cNvGraphicFramePr/>
          <p:nvPr/>
        </p:nvGraphicFramePr>
        <p:xfrm>
          <a:off x="817560" y="2873520"/>
          <a:ext cx="2241720" cy="217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7560" y="2873520"/>
                    <a:ext cx="2241720" cy="21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10"/>
          <p:cNvSpPr/>
          <p:nvPr/>
        </p:nvSpPr>
        <p:spPr>
          <a:xfrm>
            <a:off x="5486400" y="3429000"/>
            <a:ext cx="332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rid of the negative ex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12"/>
          <p:cNvGraphicFramePr/>
          <p:nvPr/>
        </p:nvGraphicFramePr>
        <p:xfrm>
          <a:off x="2666880" y="4913280"/>
          <a:ext cx="2497320" cy="171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913280"/>
                    <a:ext cx="249732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3"/>
          <p:cNvGraphicFramePr/>
          <p:nvPr/>
        </p:nvGraphicFramePr>
        <p:xfrm>
          <a:off x="533520" y="5029200"/>
          <a:ext cx="2133360" cy="156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520" y="5029200"/>
                    <a:ext cx="213336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14"/>
          <p:cNvSpPr/>
          <p:nvPr/>
        </p:nvSpPr>
        <p:spPr>
          <a:xfrm>
            <a:off x="1905120" y="5257800"/>
            <a:ext cx="2209680" cy="76212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6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980720" y="38088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4267080" y="0"/>
          <a:ext cx="2057400" cy="17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0"/>
                    <a:ext cx="205740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74"/>
          <p:cNvGraphicFramePr/>
          <p:nvPr/>
        </p:nvGraphicFramePr>
        <p:xfrm>
          <a:off x="1625760" y="1600200"/>
          <a:ext cx="7506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7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5760" y="1600200"/>
                    <a:ext cx="750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75"/>
          <p:cNvGraphicFramePr/>
          <p:nvPr/>
        </p:nvGraphicFramePr>
        <p:xfrm>
          <a:off x="1625760" y="2590920"/>
          <a:ext cx="75060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7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25760" y="2590920"/>
                    <a:ext cx="7506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76"/>
          <p:cNvGraphicFramePr/>
          <p:nvPr/>
        </p:nvGraphicFramePr>
        <p:xfrm>
          <a:off x="1625760" y="3581280"/>
          <a:ext cx="66024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Object 7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5760" y="3581280"/>
                    <a:ext cx="6602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77"/>
          <p:cNvGraphicFramePr/>
          <p:nvPr/>
        </p:nvGraphicFramePr>
        <p:xfrm>
          <a:off x="1625760" y="4648320"/>
          <a:ext cx="660240" cy="99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Object 7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5760" y="4648320"/>
                    <a:ext cx="6602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CorShape1"/>
          <p:cNvSpPr/>
          <p:nvPr/>
        </p:nvSpPr>
        <p:spPr>
          <a:xfrm rot="10800000">
            <a:off x="288720" y="1811160"/>
            <a:ext cx="495000" cy="495360"/>
          </a:xfrm>
          <a:custGeom>
            <a:avLst/>
            <a:gdLst>
              <a:gd name="textAreaLeft" fmla="*/ 0 w 495000"/>
              <a:gd name="textAreaRight" fmla="*/ 495360 w 4950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380880" y="1066680"/>
            <a:ext cx="8321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dividing monomials, subtract the exponent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Times New Roman"/>
              </a:rPr>
              <a:t>Dividing Monomial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1640" y="487656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= m</a:t>
            </a:r>
            <a:r>
              <a:rPr b="1" lang="en-US" sz="4400" spc="-1" strike="noStrike" baseline="30000">
                <a:solidFill>
                  <a:srgbClr val="fc0128"/>
                </a:solidFill>
                <a:latin typeface="Times New Roman"/>
              </a:rPr>
              <a:t>6 </a:t>
            </a: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n</a:t>
            </a:r>
            <a:r>
              <a:rPr b="1" lang="en-US" sz="44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1219320" y="2585880"/>
          <a:ext cx="687240" cy="13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85880"/>
                    <a:ext cx="687240" cy="13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5"/>
          <p:cNvGraphicFramePr/>
          <p:nvPr/>
        </p:nvGraphicFramePr>
        <p:xfrm>
          <a:off x="1219320" y="4495680"/>
          <a:ext cx="1258920" cy="13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495680"/>
                    <a:ext cx="125892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6"/>
          <p:cNvSpPr/>
          <p:nvPr/>
        </p:nvSpPr>
        <p:spPr>
          <a:xfrm>
            <a:off x="4724280" y="29718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b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11"/>
          <p:cNvGraphicFramePr/>
          <p:nvPr/>
        </p:nvGraphicFramePr>
        <p:xfrm>
          <a:off x="1981080" y="2666880"/>
          <a:ext cx="2667240" cy="133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666880"/>
                    <a:ext cx="2667240" cy="13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Line 13"/>
          <p:cNvSpPr/>
          <p:nvPr/>
        </p:nvSpPr>
        <p:spPr>
          <a:xfrm>
            <a:off x="2487600" y="2816280"/>
            <a:ext cx="888840" cy="11462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2921040" y="2819520"/>
            <a:ext cx="888840" cy="11458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6113160" y="2982960"/>
            <a:ext cx="11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= b</a:t>
            </a:r>
            <a:r>
              <a:rPr b="1" lang="en-US" sz="44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6"/>
          <p:cNvSpPr/>
          <p:nvPr/>
        </p:nvSpPr>
        <p:spPr>
          <a:xfrm>
            <a:off x="2514600" y="481824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m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7-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24280" y="198108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ctr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= 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1152360" y="355680"/>
          <a:ext cx="18622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355680"/>
                    <a:ext cx="18622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5"/>
          <p:cNvGraphicFramePr/>
          <p:nvPr/>
        </p:nvGraphicFramePr>
        <p:xfrm>
          <a:off x="1062000" y="3720960"/>
          <a:ext cx="2373480" cy="13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0" y="3720960"/>
                    <a:ext cx="237348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7"/>
          <p:cNvSpPr/>
          <p:nvPr/>
        </p:nvSpPr>
        <p:spPr>
          <a:xfrm>
            <a:off x="5608080" y="5410080"/>
            <a:ext cx="18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= 9a</a:t>
            </a:r>
            <a:r>
              <a:rPr b="1" lang="en-US" sz="4400" spc="-1" strike="noStrike" baseline="30000">
                <a:solidFill>
                  <a:srgbClr val="fc0128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b</a:t>
            </a:r>
            <a:r>
              <a:rPr b="1" lang="en-US" sz="44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Object 11"/>
          <p:cNvGraphicFramePr/>
          <p:nvPr/>
        </p:nvGraphicFramePr>
        <p:xfrm>
          <a:off x="1859040" y="5027760"/>
          <a:ext cx="3779640" cy="14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9040" y="5027760"/>
                    <a:ext cx="377964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3" name="Object 14"/>
              <p:cNvSpPr txBox="1"/>
              <p:nvPr/>
            </p:nvSpPr>
            <p:spPr>
              <a:xfrm>
                <a:off x="1828800" y="1905120"/>
                <a:ext cx="3124080" cy="14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4233960" y="228600"/>
          <a:ext cx="170964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3960" y="228600"/>
                    <a:ext cx="17096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8g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8gh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g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gh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CorShape1"/>
          <p:cNvSpPr/>
          <p:nvPr/>
        </p:nvSpPr>
        <p:spPr>
          <a:xfrm rot="10800000">
            <a:off x="390240" y="4344480"/>
            <a:ext cx="368280" cy="368280"/>
          </a:xfrm>
          <a:custGeom>
            <a:avLst/>
            <a:gdLst>
              <a:gd name="textAreaLeft" fmla="*/ 0 w 368280"/>
              <a:gd name="textAreaRight" fmla="*/ 368640 w 3682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5"/>
          <p:cNvGraphicFramePr/>
          <p:nvPr/>
        </p:nvGraphicFramePr>
        <p:xfrm>
          <a:off x="1054080" y="749160"/>
          <a:ext cx="2322360" cy="13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749160"/>
                    <a:ext cx="232236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7"/>
          <p:cNvSpPr/>
          <p:nvPr/>
        </p:nvSpPr>
        <p:spPr>
          <a:xfrm>
            <a:off x="3747600" y="1054080"/>
            <a:ext cx="201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= 1m</a:t>
            </a: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’s a tricky 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happened to the 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5801400" y="1054080"/>
            <a:ext cx="105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c0128"/>
                </a:solidFill>
                <a:latin typeface="Times New Roman"/>
              </a:rPr>
              <a:t>= 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11"/>
          <p:cNvGraphicFramePr/>
          <p:nvPr/>
        </p:nvGraphicFramePr>
        <p:xfrm>
          <a:off x="1828800" y="2590920"/>
          <a:ext cx="5433840" cy="14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590920"/>
                    <a:ext cx="543384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Line 12"/>
          <p:cNvSpPr/>
          <p:nvPr/>
        </p:nvSpPr>
        <p:spPr>
          <a:xfrm>
            <a:off x="4267080" y="2820960"/>
            <a:ext cx="331920" cy="11430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849920" y="2820960"/>
            <a:ext cx="331560" cy="11430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5459400" y="2820960"/>
            <a:ext cx="331920" cy="11430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5943600" y="2820960"/>
            <a:ext cx="331920" cy="11430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6400800" y="2820960"/>
            <a:ext cx="331920" cy="11430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3962520" y="2820960"/>
            <a:ext cx="331560" cy="11430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85800" y="4114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y canceled out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no m’s left over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leads us to our next rul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4191120" y="2744640"/>
            <a:ext cx="1752480" cy="129564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21"/>
          <p:cNvGraphicFramePr/>
          <p:nvPr/>
        </p:nvGraphicFramePr>
        <p:xfrm>
          <a:off x="6805440" y="3992400"/>
          <a:ext cx="1424160" cy="134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05440" y="3992400"/>
                    <a:ext cx="142416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Zero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ything to the 0 power is equal to 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a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=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ue or False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ything divided by itself equals 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Tru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See for yourself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12"/>
          <p:cNvGraphicFramePr/>
          <p:nvPr/>
        </p:nvGraphicFramePr>
        <p:xfrm>
          <a:off x="2133720" y="4276800"/>
          <a:ext cx="480060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4276800"/>
                    <a:ext cx="480060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16"/>
          <p:cNvGraphicFramePr/>
          <p:nvPr/>
        </p:nvGraphicFramePr>
        <p:xfrm>
          <a:off x="2133720" y="6039000"/>
          <a:ext cx="480060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6039000"/>
                    <a:ext cx="48006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Line 17"/>
          <p:cNvSpPr/>
          <p:nvPr/>
        </p:nvSpPr>
        <p:spPr>
          <a:xfrm>
            <a:off x="2666880" y="5419800"/>
            <a:ext cx="0" cy="60948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4419720" y="5419800"/>
            <a:ext cx="0" cy="60948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6400800" y="5419800"/>
            <a:ext cx="0" cy="60948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763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negative exponent means you move the base to the other side of the fraction and make the exponent posit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219240" y="2865600"/>
          <a:ext cx="8848440" cy="18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2865600"/>
                    <a:ext cx="8848440" cy="18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28600" y="4876920"/>
            <a:ext cx="8763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tice that the base with the negative exponent moved and became positiv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2514600" y="3505320"/>
            <a:ext cx="762120" cy="76176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2"/>
          <p:cNvSpPr/>
          <p:nvPr/>
        </p:nvSpPr>
        <p:spPr>
          <a:xfrm flipV="1">
            <a:off x="6324480" y="3657240"/>
            <a:ext cx="685800" cy="685800"/>
          </a:xfrm>
          <a:prstGeom prst="line">
            <a:avLst/>
          </a:prstGeom>
          <a:ln w="63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2077920" y="3216240"/>
          <a:ext cx="4241880" cy="12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3216240"/>
                    <a:ext cx="424188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8"/>
          <p:cNvSpPr/>
          <p:nvPr/>
        </p:nvSpPr>
        <p:spPr>
          <a:xfrm>
            <a:off x="533520" y="91440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838080" indent="-838080">
              <a:buClr>
                <a:srgbClr val="000000"/>
              </a:buClr>
              <a:buFont typeface="Time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-4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br>
              <a:rPr sz="5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can not have negative or zero exponents in your answ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9"/>
          <p:cNvGraphicFramePr/>
          <p:nvPr/>
        </p:nvGraphicFramePr>
        <p:xfrm>
          <a:off x="2590920" y="4648320"/>
          <a:ext cx="31874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648320"/>
                    <a:ext cx="3187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26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26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980720" y="380880"/>
            <a:ext cx="2514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4724280" y="228600"/>
          <a:ext cx="74448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28600"/>
                    <a:ext cx="7444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73"/>
          <p:cNvGraphicFramePr/>
          <p:nvPr/>
        </p:nvGraphicFramePr>
        <p:xfrm>
          <a:off x="1371600" y="4191120"/>
          <a:ext cx="5079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191120"/>
                    <a:ext cx="507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75"/>
          <p:cNvGraphicFramePr/>
          <p:nvPr/>
        </p:nvGraphicFramePr>
        <p:xfrm>
          <a:off x="1371600" y="3276720"/>
          <a:ext cx="51120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7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276720"/>
                    <a:ext cx="5112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CorShape1"/>
          <p:cNvSpPr/>
          <p:nvPr/>
        </p:nvSpPr>
        <p:spPr>
          <a:xfrm rot="10800000">
            <a:off x="390240" y="3612960"/>
            <a:ext cx="368280" cy="368280"/>
          </a:xfrm>
          <a:custGeom>
            <a:avLst/>
            <a:gdLst>
              <a:gd name="textAreaLeft" fmla="*/ 0 w 368280"/>
              <a:gd name="textAreaRight" fmla="*/ 368640 w 3682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15:01Z</dcterms:created>
  <dc:creator>Skip Tyler</dc:creator>
  <dc:description/>
  <dc:language>en-US</dc:language>
  <cp:lastModifiedBy>SCSCHOOLS</cp:lastModifiedBy>
  <dcterms:modified xsi:type="dcterms:W3CDTF">2011-02-11T19:12:28Z</dcterms:modified>
  <cp:revision>36</cp:revision>
  <dc:subject/>
  <dc:title>Dividing Monomials</dc:title>
</cp:coreProperties>
</file>